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ED7-0BB0-48C6-BEA9-1BEF7F4A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EE2-5788-4BAE-81C4-A88BBFF7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267-8687-413B-AEFB-30CCB7E8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94E-2FCB-4D97-891E-E6D4B9DC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4E12-A80C-49D4-9CDB-A74FF33F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3F99-FBB6-47F2-83D7-5486748B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D76F-8D0E-49B7-B54D-785E9BCB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83A1-DA2F-456E-BE2E-F0081066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6E95-0E85-4245-BBBA-02339099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5F05-D049-4D3E-A96B-FB00E5C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3C1C-62E0-4B99-B55D-5CAFCDE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3B1-F7C6-4409-89F2-64FE878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4105-4212-47F3-B6CF-B9382E5A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7C60-D0CB-49DC-A210-2A4C48A0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902F-1BA9-4866-A957-0099AF31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C145-7C42-4BAF-BFF2-80E52223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90CD-2BF9-4553-A08A-EE0A0851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249D-F758-4BFA-BF58-1A7761D1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65FB-AFE9-472D-AA8F-4418D7E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B08E-0C77-4DA6-9979-08229F7F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5E497-A451-4E67-B336-0C80F7FE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E6B8-6236-4686-BBA2-9CADDEFC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CB7-CB6A-4C01-B413-FE4354BA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9954-3E66-438E-A451-BE93E091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30F51-0026-4C11-A06D-B478F102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CDE3-4CC4-493C-9FAA-7B105E7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B0E2-CE09-4173-A97C-286065C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84C4B-D5F9-4408-BBB3-D7E07783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4F47-3C59-4323-BB53-4BD21F5C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253F-D53D-45E5-B091-2B01195F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72C8-A626-46CA-A484-8D8DEA31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1376-D0D5-455F-8DB1-727DDAFA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4AABF-02AC-4AB5-80A7-34E6DFF9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FAB-0DA4-4006-A461-BC6DB0F4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F547-BBBD-4AC6-8F02-3EC8DB17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FD47-010D-4B8A-92EA-85F590EC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7E778-9C98-40FE-8BEF-20B573FF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971B5-34DF-4E21-BE76-69A0116F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1D33-CDDD-445E-8011-AAD4ADE7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CFE5-9672-4F5A-9A44-BF32EE9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93F0-64DE-4A96-8336-8AF76AD2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5EC9E-632B-46EC-83CE-9B46D110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D6FF-2225-4E52-8F82-7A361BD1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B62-EBC7-45BC-9D5A-145C2E56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D2C-71FA-45D2-8998-8657C34B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70F-A161-4A52-B649-471E727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E1A-5DB9-4BF6-990F-D4B24B6C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38C-00EB-4665-B3F7-25F96010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6FD3-9FB7-407B-8C8B-E19ED565D9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A600-200D-4CAD-9EB3-FBD48B0EEBA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2CAD-E194-437F-8F58-D3E95616BF4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F87C-B0C3-467B-ADEC-942615E0FB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youtube.com/watch?v=11BQQvVy8LI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791480" cy="1292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2114640"/>
            <a:ext cx="6307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we make a bubble that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n’t round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792468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圓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74040" y="137160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泡影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late this to as many ideas from our class as you ca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9512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E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 of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di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er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bserv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34:23Z</dcterms:created>
  <dc:creator>Edward Robeck</dc:creator>
  <dc:description/>
  <dc:language>en-US</dc:language>
  <cp:lastModifiedBy>Edward Robeck</cp:lastModifiedBy>
  <dcterms:modified xsi:type="dcterms:W3CDTF">2010-05-11T14:51:02Z</dcterms:modified>
  <cp:revision>2</cp:revision>
  <dc:subject/>
  <dc:title>My Favorite Bubble</dc:title>
</cp:coreProperties>
</file>